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C3EA1-FEDE-4419-AA97-2FE44B3946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310C9-8125-454A-8E3E-510EF86AD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A098-8938-4535-81DC-DE0EE460D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5A9E7-EED5-4B27-8660-CA4F6E9D8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CC15-EF2D-46CD-82A5-373860F59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DA24-F856-4DD6-8C96-66E5CE57B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4587E-6FDC-471E-B105-AEE84D1F6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2918-63F2-4BE8-ABF6-B2C0996AC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D157-C1F3-48EB-8874-28B877E86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FE40D-178C-471B-94C5-7CACD8EDB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85C6-5881-42D8-A129-9EE3D931B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93D17-96EC-4EB6-8B29-BE4B3D93D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0E6E6-25D7-4686-8F59-6CF788493D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8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9-03-03T06:07:33Z</dcterms:modified>
  <cp:revision>2</cp:revision>
  <dc:subject/>
  <dc:title>PowerPoint Presentation</dc:title>
</cp:coreProperties>
</file>