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95462"/>
        <c:axId val="56360275"/>
      </c:barChart>
      <c:catAx>
        <c:axId val="64595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60275"/>
        <c:crosses val="autoZero"/>
        <c:auto val="1"/>
        <c:lblAlgn val="ctr"/>
        <c:lblOffset val="100"/>
        <c:noMultiLvlLbl val="0"/>
      </c:catAx>
      <c:valAx>
        <c:axId val="56360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95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98B-2C2F-4BF4-A0E3-410974AA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BD6-0776-490F-8500-B5A426E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7A2-0BB6-46F4-852D-C32101B1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94C-AB49-492F-A973-89B1DB4C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AA0-5EEB-4226-BC2F-7A5A809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D4F-32F1-4DBD-8D40-9C230A5A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400-71FC-44E5-9683-78458D8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E98-86C0-4BA8-B557-589FEC6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401-7895-44F5-A16E-1C2764DD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1CB-D6F7-4DCD-AB3C-E04EFFF1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B80-3426-4823-955D-CA518BEC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9A8-B106-40D5-9C97-9D466993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5B54-AF48-4BB7-906B-0680E95FBC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