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10148"/>
        <c:axId val="68590699"/>
      </c:barChart>
      <c:catAx>
        <c:axId val="58010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90699"/>
        <c:crosses val="autoZero"/>
        <c:auto val="1"/>
        <c:lblAlgn val="ctr"/>
        <c:lblOffset val="100"/>
        <c:noMultiLvlLbl val="0"/>
      </c:catAx>
      <c:valAx>
        <c:axId val="68590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10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E39-4A8C-4514-A53A-C549E490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2AC-38C0-4624-BF03-BC97A5A7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091-7618-47C2-854D-BCEEF785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A17-F5DF-4471-8B02-0A39D847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6DE-78B2-48A3-8A02-541CA3BF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FE3-0D85-4B62-B5AC-BF934A59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8C8-1CA8-4E69-BD1C-4C87553A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F89-3160-4E0D-9BA0-37CE9F84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23C-D7B7-4505-B1F9-8DC8AC6F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D12-2DDC-4EFA-A57D-64A19C23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D4E-6080-4648-A43F-A1986529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5CA-8397-423F-8FFD-F200F39F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1D959-66F3-49F4-A9C8-E2D848A3E1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