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533520" y="838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457200" y="1295280"/>
            <a:ext cx="60948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533520" y="2057400"/>
            <a:ext cx="83808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85800" y="2895480"/>
            <a:ext cx="609840" cy="457560"/>
          </a:xfrm>
          <a:custGeom>
            <a:avLst/>
            <a:gdLst/>
            <a:ahLst/>
            <a:rect l="0" t="0" r="r" b="b"/>
            <a:pathLst>
              <a:path fill="none" w="1694" h="1271">
                <a:moveTo>
                  <a:pt x="1694" y="1271"/>
                </a:moveTo>
                <a:lnTo>
                  <a:pt x="1694" y="1271"/>
                </a:lnTo>
                <a:lnTo>
                  <a:pt x="1694" y="1271"/>
                </a:lnTo>
                <a:cubicBezTo>
                  <a:pt x="1694" y="1048"/>
                  <a:pt x="1616" y="829"/>
                  <a:pt x="1467" y="635"/>
                </a:cubicBezTo>
                <a:cubicBezTo>
                  <a:pt x="1318" y="442"/>
                  <a:pt x="1105" y="282"/>
                  <a:pt x="847" y="170"/>
                </a:cubicBezTo>
                <a:cubicBezTo>
                  <a:pt x="589" y="59"/>
                  <a:pt x="29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50800" y="3429000"/>
            <a:ext cx="1735560" cy="1100520"/>
          </a:xfrm>
          <a:custGeom>
            <a:avLst/>
            <a:gdLst/>
            <a:ahLst/>
            <a:rect l="0" t="0" r="r" b="b"/>
            <a:pathLst>
              <a:path fill="none" w="4821" h="3057">
                <a:moveTo>
                  <a:pt x="798" y="847"/>
                </a:moveTo>
                <a:lnTo>
                  <a:pt x="586" y="1178"/>
                </a:lnTo>
                <a:lnTo>
                  <a:pt x="410" y="1588"/>
                </a:lnTo>
                <a:lnTo>
                  <a:pt x="176" y="2174"/>
                </a:lnTo>
                <a:lnTo>
                  <a:pt x="114" y="2528"/>
                </a:lnTo>
                <a:lnTo>
                  <a:pt x="0" y="2824"/>
                </a:lnTo>
                <a:lnTo>
                  <a:pt x="0" y="2943"/>
                </a:lnTo>
                <a:lnTo>
                  <a:pt x="176" y="3057"/>
                </a:lnTo>
                <a:lnTo>
                  <a:pt x="410" y="3000"/>
                </a:lnTo>
                <a:lnTo>
                  <a:pt x="529" y="2881"/>
                </a:lnTo>
                <a:lnTo>
                  <a:pt x="705" y="2766"/>
                </a:lnTo>
                <a:lnTo>
                  <a:pt x="939" y="2705"/>
                </a:lnTo>
                <a:lnTo>
                  <a:pt x="1115" y="2705"/>
                </a:lnTo>
                <a:lnTo>
                  <a:pt x="1235" y="2647"/>
                </a:lnTo>
                <a:lnTo>
                  <a:pt x="1412" y="2590"/>
                </a:lnTo>
                <a:lnTo>
                  <a:pt x="1588" y="2528"/>
                </a:lnTo>
                <a:lnTo>
                  <a:pt x="1879" y="2471"/>
                </a:lnTo>
                <a:lnTo>
                  <a:pt x="2351" y="2471"/>
                </a:lnTo>
                <a:lnTo>
                  <a:pt x="2823" y="2471"/>
                </a:lnTo>
                <a:lnTo>
                  <a:pt x="3176" y="2471"/>
                </a:lnTo>
                <a:lnTo>
                  <a:pt x="3467" y="2471"/>
                </a:lnTo>
                <a:lnTo>
                  <a:pt x="3644" y="2471"/>
                </a:lnTo>
                <a:lnTo>
                  <a:pt x="3467" y="2471"/>
                </a:lnTo>
                <a:lnTo>
                  <a:pt x="3056" y="2117"/>
                </a:lnTo>
                <a:lnTo>
                  <a:pt x="2646" y="1707"/>
                </a:lnTo>
                <a:lnTo>
                  <a:pt x="2470" y="1412"/>
                </a:lnTo>
                <a:lnTo>
                  <a:pt x="2408" y="1235"/>
                </a:lnTo>
                <a:lnTo>
                  <a:pt x="2408" y="1116"/>
                </a:lnTo>
                <a:lnTo>
                  <a:pt x="2527" y="1116"/>
                </a:lnTo>
                <a:lnTo>
                  <a:pt x="2823" y="1116"/>
                </a:lnTo>
                <a:lnTo>
                  <a:pt x="2937" y="1235"/>
                </a:lnTo>
                <a:lnTo>
                  <a:pt x="2999" y="1412"/>
                </a:lnTo>
                <a:lnTo>
                  <a:pt x="2585" y="1531"/>
                </a:lnTo>
                <a:lnTo>
                  <a:pt x="2232" y="1531"/>
                </a:lnTo>
                <a:lnTo>
                  <a:pt x="1941" y="1531"/>
                </a:lnTo>
                <a:lnTo>
                  <a:pt x="1822" y="1531"/>
                </a:lnTo>
                <a:lnTo>
                  <a:pt x="1822" y="1412"/>
                </a:lnTo>
                <a:lnTo>
                  <a:pt x="1879" y="1293"/>
                </a:lnTo>
                <a:lnTo>
                  <a:pt x="1645" y="1293"/>
                </a:lnTo>
                <a:lnTo>
                  <a:pt x="1469" y="1293"/>
                </a:lnTo>
                <a:lnTo>
                  <a:pt x="1412" y="1412"/>
                </a:lnTo>
                <a:lnTo>
                  <a:pt x="1588" y="1412"/>
                </a:lnTo>
                <a:lnTo>
                  <a:pt x="1469" y="1412"/>
                </a:lnTo>
                <a:lnTo>
                  <a:pt x="1115" y="1354"/>
                </a:lnTo>
                <a:lnTo>
                  <a:pt x="820" y="1235"/>
                </a:lnTo>
                <a:lnTo>
                  <a:pt x="586" y="1059"/>
                </a:lnTo>
                <a:lnTo>
                  <a:pt x="1058" y="1059"/>
                </a:lnTo>
                <a:lnTo>
                  <a:pt x="1350" y="1059"/>
                </a:lnTo>
                <a:lnTo>
                  <a:pt x="1526" y="1059"/>
                </a:lnTo>
                <a:lnTo>
                  <a:pt x="1645" y="1059"/>
                </a:lnTo>
                <a:lnTo>
                  <a:pt x="1645" y="940"/>
                </a:lnTo>
                <a:lnTo>
                  <a:pt x="1526" y="882"/>
                </a:lnTo>
                <a:lnTo>
                  <a:pt x="1293" y="825"/>
                </a:lnTo>
                <a:lnTo>
                  <a:pt x="1115" y="762"/>
                </a:lnTo>
                <a:lnTo>
                  <a:pt x="996" y="762"/>
                </a:lnTo>
                <a:lnTo>
                  <a:pt x="4610" y="0"/>
                </a:lnTo>
                <a:lnTo>
                  <a:pt x="4821" y="0"/>
                </a:lnTo>
                <a:lnTo>
                  <a:pt x="3975" y="8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90920" y="1066680"/>
            <a:ext cx="1295640" cy="838440"/>
          </a:xfrm>
          <a:custGeom>
            <a:avLst/>
            <a:gdLst/>
            <a:ahLst/>
            <a:rect l="0" t="0" r="r" b="b"/>
            <a:pathLst>
              <a:path w="3599" h="2329">
                <a:moveTo>
                  <a:pt x="0" y="2329"/>
                </a:moveTo>
                <a:lnTo>
                  <a:pt x="2879" y="2329"/>
                </a:lnTo>
                <a:lnTo>
                  <a:pt x="3599" y="1863"/>
                </a:lnTo>
                <a:lnTo>
                  <a:pt x="3599" y="0"/>
                </a:lnTo>
                <a:lnTo>
                  <a:pt x="2879" y="465"/>
                </a:lnTo>
                <a:lnTo>
                  <a:pt x="2879" y="2329"/>
                </a:lnTo>
                <a:lnTo>
                  <a:pt x="2879" y="465"/>
                </a:lnTo>
                <a:lnTo>
                  <a:pt x="0" y="465"/>
                </a:lnTo>
                <a:lnTo>
                  <a:pt x="719" y="0"/>
                </a:lnTo>
                <a:lnTo>
                  <a:pt x="3599" y="0"/>
                </a:lnTo>
                <a:lnTo>
                  <a:pt x="719" y="0"/>
                </a:lnTo>
                <a:lnTo>
                  <a:pt x="0" y="465"/>
                </a:lnTo>
                <a:lnTo>
                  <a:pt x="0" y="2329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95680" y="1066680"/>
            <a:ext cx="76212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1066680"/>
            <a:ext cx="762120" cy="533520"/>
          </a:xfrm>
          <a:prstGeom prst="rect">
            <a:avLst/>
          </a:prstGeom>
          <a:solidFill>
            <a:srgbClr val="618ffd"/>
          </a:solidFill>
          <a:ln w="12600">
            <a:solidFill>
              <a:srgbClr val="7f7f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990720"/>
            <a:ext cx="68580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2362320"/>
            <a:ext cx="1066680" cy="9144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438280"/>
            <a:ext cx="914400" cy="9144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809880"/>
            <a:ext cx="83808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962520"/>
            <a:ext cx="1143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038480"/>
            <a:ext cx="1371600" cy="76212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1d2a4b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onso</dc:creator>
  <dc:description>commentairesligne 2</dc:description>
  <dc:language>en-US</dc:language>
  <cp:lastModifiedBy>alonso</cp:lastModifiedBy>
  <cp:revision>0</cp:revision>
  <dc:subject>subjet</dc:subject>
  <dc:title>title</dc:title>
</cp:coreProperties>
</file>