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279619"/>
        <c:axId val="97363793"/>
      </c:barChart>
      <c:catAx>
        <c:axId val="132796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63793"/>
        <c:crosses val="autoZero"/>
        <c:auto val="1"/>
        <c:lblAlgn val="ctr"/>
        <c:lblOffset val="100"/>
        <c:noMultiLvlLbl val="0"/>
      </c:catAx>
      <c:valAx>
        <c:axId val="973637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796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4964-2EE6-4907-B3A3-460BA0B3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37DF-C628-4C80-A02D-225BD784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2ABA-7239-4F04-8A96-4E37E1E2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9C8C-F12E-4643-8DA5-BEE6FED8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B9C4-5D5E-45C2-9579-8059632A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98D3-C345-4269-895C-AC34229F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EDB1-698D-42E6-8632-EBA4D760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2B28-9764-425F-A47A-4ADE11B2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98CC-D478-4647-B586-C39E1B37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9B09-9BE7-4BBA-8A80-6DFF2FDC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186C-B46E-4BCC-83D8-B357C044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F668-DBC1-4619-A23A-EA4043D3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D4DE1-521D-4646-B32E-C99BF7515D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