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27240"/>
        <c:axId val="55101546"/>
      </c:barChart>
      <c:catAx>
        <c:axId val="28127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1546"/>
        <c:crosses val="autoZero"/>
        <c:auto val="1"/>
        <c:lblAlgn val="ctr"/>
        <c:lblOffset val="100"/>
        <c:noMultiLvlLbl val="0"/>
      </c:catAx>
      <c:valAx>
        <c:axId val="55101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27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E6E-C5B9-4EEF-AA09-0CBAA8C8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EA7-BDB9-48F7-92DF-3852C3DD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41C-209A-4E18-86E9-DAB4A5D6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ED8-61FD-4477-B9A4-D582A8C6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BB4-ADE7-4C9E-9092-80417F4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8B7-407F-41D1-BF01-23ABC28F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C32-3364-4DC6-9110-0C3F85A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72B-9B47-4986-87D9-BF51EBB8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73F-4D47-4122-B3A9-746F0D8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684-1C94-4E64-A247-A0624B5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CD2-C549-4CD9-9063-F8DCF0F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D42-C5B1-441C-9F13-55B8FE0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B24F-7EF0-4EBD-BB69-77EFB163DB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