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60449"/>
        <c:axId val="43346643"/>
      </c:barChart>
      <c:catAx>
        <c:axId val="10160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46643"/>
        <c:crosses val="autoZero"/>
        <c:auto val="1"/>
        <c:lblAlgn val="ctr"/>
        <c:lblOffset val="100"/>
        <c:noMultiLvlLbl val="0"/>
      </c:catAx>
      <c:valAx>
        <c:axId val="43346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60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0B3-C3E9-416B-92D1-A3B57F06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DD3-AE57-47DE-9A91-928972CB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CC1-497A-402F-8994-F2DAD7A6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B1E-679A-4CEF-BB79-99CE91C9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75D-2B14-40FF-89F8-745DF8AA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197-F456-4A76-B956-B628FEE9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8B0-D082-47C6-875A-7F1A88E3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4E6-0FF8-4B4D-B2F7-2798C764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390-4405-484A-8C20-E86B6A96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240-D070-4670-9DDE-45ACF730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375-F770-4DB1-AC15-90EFB05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EB9-AADB-4BF3-9FD1-147AE62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46FE9-7973-4C0A-AA39-A392AE16D9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