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41402"/>
        <c:axId val="39559184"/>
      </c:barChart>
      <c:catAx>
        <c:axId val="51341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9184"/>
        <c:crosses val="autoZero"/>
        <c:auto val="1"/>
        <c:lblAlgn val="ctr"/>
        <c:lblOffset val="100"/>
        <c:noMultiLvlLbl val="0"/>
      </c:catAx>
      <c:valAx>
        <c:axId val="39559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1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D5C-B88D-4A9E-80CE-0A92AF15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79B-1EC1-467E-B372-0955D11E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1D7-E18A-4C18-8F9E-F92E7FFD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726-A224-49FD-97EB-48269AC1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277-7F32-4DCB-BA93-FC455C67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4BC-2D1A-4296-B8CA-1BB02E98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775-3D94-477E-8FF0-113FA03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8BC-E6CE-4F5E-8149-62F85CB1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EC4-A3A7-4647-A6BF-97384B1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660-ADD1-4BEC-B45A-EA4E4C1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D17-1B7F-4BEE-A722-42400155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711-2450-4ADD-B426-E28BF3B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F1264-BCDF-4C38-94FF-ED31EE329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