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79381"/>
        <c:axId val="66486651"/>
      </c:barChart>
      <c:catAx>
        <c:axId val="87679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86651"/>
        <c:crosses val="autoZero"/>
        <c:auto val="1"/>
        <c:lblAlgn val="ctr"/>
        <c:lblOffset val="100"/>
        <c:noMultiLvlLbl val="0"/>
      </c:catAx>
      <c:valAx>
        <c:axId val="66486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79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EB8-3122-4FB5-B324-E7A74609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656-7755-4C76-9396-571D8899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C0D-C869-423E-8416-215B856A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150-C13C-456F-9A98-04423845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83D-82F3-418C-947B-C421044B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404-A063-4C3A-86BE-687BEE58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182-E427-48AF-8080-52823FE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AA8-50B5-414A-BEE8-FC7C5BC5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ACF-7FF7-4E5F-B6A9-30F7A2D1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D4E-30DA-4B96-9C7F-4A9FD254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211-39A8-4FE6-95CD-F6F17D0D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279-DC9C-4EF7-801A-76902293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DBD1D-382C-4456-864E-E75FE543B2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