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74122"/>
        <c:axId val="92491070"/>
      </c:barChart>
      <c:catAx>
        <c:axId val="18374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91070"/>
        <c:crosses val="autoZero"/>
        <c:auto val="1"/>
        <c:lblAlgn val="ctr"/>
        <c:lblOffset val="100"/>
        <c:noMultiLvlLbl val="0"/>
      </c:catAx>
      <c:valAx>
        <c:axId val="92491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74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128-2783-4891-810F-3CCC9654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857-978D-4F71-9F7F-26FF02F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55E-90F9-4269-8F95-AF4016ED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1B2-94CC-498D-A558-1A34477B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8EC-EDE6-4592-8106-731A55F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A49-FBB4-49B0-BBEA-E4B2A3CD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C9D-EB6D-4F27-9F40-D9D29B8D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BA5-7033-4042-9B97-F5F7F6AA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3EC-217A-4909-8F85-13C2DDE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A08-B91C-4F0E-8EA0-D65DE9A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C57-7C59-4A84-A589-AB123F6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880-83DA-4A86-B4C8-F435F12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9A117-BE93-475D-8C2D-03FC6CA18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