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35557"/>
        <c:axId val="31698516"/>
      </c:barChart>
      <c:catAx>
        <c:axId val="37335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98516"/>
        <c:crosses val="autoZero"/>
        <c:auto val="1"/>
        <c:lblAlgn val="ctr"/>
        <c:lblOffset val="100"/>
        <c:noMultiLvlLbl val="0"/>
      </c:catAx>
      <c:valAx>
        <c:axId val="31698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35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3F5-067C-4BEC-B136-78A8DBD4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B5B-A5E9-435B-B822-BE5DE0C4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506-6D42-44DB-B002-FC30A77A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557-BD7F-422C-BEA1-11CCDC0A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13E-9D27-4267-A72C-9FE50979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69A-058D-466B-855B-B53A5EC2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438-DCDB-4BFC-9830-B2441005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6DA-C26D-471C-8AD1-0D592A58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4A0-5F60-44D7-96E8-EB58A340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9A2-D656-4DBF-8DF9-41EE6AF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55E-9ED1-4A2E-BE8D-DFBBE728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550-6677-4488-9D92-0343EDD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1285A-AFB8-4D33-B26D-889BFDB214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