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24140"/>
        <c:axId val="15252428"/>
      </c:barChart>
      <c:catAx>
        <c:axId val="91024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52428"/>
        <c:crosses val="autoZero"/>
        <c:auto val="1"/>
        <c:lblAlgn val="ctr"/>
        <c:lblOffset val="100"/>
        <c:noMultiLvlLbl val="0"/>
      </c:catAx>
      <c:valAx>
        <c:axId val="15252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24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CF9A-C564-4F15-842E-A62B8619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82D-C537-475B-9C2D-9A4E6B38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B42-ABC4-447E-BCFA-EFEC2624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31C-CB67-41E3-8E43-5CF65860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5248-46F6-4087-988F-694AF8C4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FDB-B624-49F3-8637-4D4518E8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26F-FE95-412E-AA1E-C323E914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B5D-B15F-4EFB-9593-1C6218CD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3175-6466-4948-8EA9-FBF4BD2A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8412-5A54-4C97-A186-F642F2A9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172A-A365-4013-AC06-EE8760B4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F38-3F29-4B49-A168-3A37DFB6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495E8-7507-4558-9B86-71DEE4F256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