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22124"/>
        <c:axId val="64972540"/>
      </c:barChart>
      <c:catAx>
        <c:axId val="22822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2540"/>
        <c:crosses val="autoZero"/>
        <c:auto val="1"/>
        <c:lblAlgn val="ctr"/>
        <c:lblOffset val="100"/>
        <c:noMultiLvlLbl val="0"/>
      </c:catAx>
      <c:valAx>
        <c:axId val="64972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2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492-7658-4EAF-A783-9A4118E4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94E-F0BB-4B3B-86E4-18B638C9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C37-9D67-4473-9817-4F326830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F63-9201-43A8-A27A-34544F81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B3A-1F08-4D64-A825-46E8541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A90-519F-4D79-A071-2A39053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8FB-3A5F-4C0C-A015-E494FAD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046-0069-45F4-8263-A9A85EFE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32E-FF9E-4EAD-B861-8E5B7B2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1BB-DFD2-407F-B9AE-0BE40139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F7F-10ED-4CF3-804B-A894550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DEE-B737-4311-A717-A2B09DE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1BF9-A971-476C-9F2C-1969F87846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