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115"/>
        <c:axId val="71557203"/>
      </c:barChart>
      <c:catAx>
        <c:axId val="844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57203"/>
        <c:crosses val="autoZero"/>
        <c:auto val="1"/>
        <c:lblAlgn val="ctr"/>
        <c:lblOffset val="100"/>
        <c:noMultiLvlLbl val="0"/>
      </c:catAx>
      <c:valAx>
        <c:axId val="71557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E3F-4BAE-4382-8461-AED08800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1BA-CC91-48AB-A52B-4FAE577B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80C-46CD-48D1-8103-D155BA59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AE8-467F-49BB-9501-C4B17B9A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127-5D81-4E07-A6D5-CCFBDB9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24CC-5A92-4A8A-AEA1-F2DF0001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712-3394-4A26-B469-FCD4D70A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F58-E130-4337-8EE5-FAD220D2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706-CA47-4819-A371-56FC22A5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260-BED2-4D02-A6A3-9B238B2D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E10-1D5E-417B-8D04-8F0CAA0B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66C-807F-4429-898D-F32DBBD5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445DB-2B18-4FD3-BC65-7B09E39167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