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4523"/>
        <c:axId val="8678102"/>
      </c:barChart>
      <c:catAx>
        <c:axId val="8464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102"/>
        <c:crosses val="autoZero"/>
        <c:auto val="1"/>
        <c:lblAlgn val="ctr"/>
        <c:lblOffset val="100"/>
        <c:noMultiLvlLbl val="0"/>
      </c:catAx>
      <c:valAx>
        <c:axId val="8678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4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AA2-E4F6-4E3E-87E2-759A4F82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97F-C3AC-42A3-A842-6FF91621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7DC-3425-49B2-AA32-8CA63EB2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F58-2618-4791-BA7F-BDAF0CC4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77F-1345-4A9A-8DE7-6D88F205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6CC-EA64-4272-AC27-D9E28D1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189-46A7-47EC-BB5A-296FF3A4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CAC-A1E9-422C-9CF8-FEC975A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CC4-B859-4BA6-95DE-96545B2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6DA-6733-481C-93C3-1C7E758C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B13-6863-4B43-8233-1F05222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249-FA4C-4950-88E7-F1CF7A0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CAACE-7D4E-466C-B048-38AECAFDDB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