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62238"/>
        <c:axId val="64745206"/>
      </c:barChart>
      <c:catAx>
        <c:axId val="34762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45206"/>
        <c:crosses val="autoZero"/>
        <c:auto val="1"/>
        <c:lblAlgn val="ctr"/>
        <c:lblOffset val="100"/>
        <c:noMultiLvlLbl val="0"/>
      </c:catAx>
      <c:valAx>
        <c:axId val="64745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62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36CD-A6CC-4B05-9CE2-57DC7E8D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3F2F-BC89-4B5B-BAA1-65E6ED97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2DF5-E4C5-401D-A550-3887E250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AD6-0D68-4FD1-837C-73F45BE8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991-6997-482F-B15D-814725FF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4AC-FDCA-4B82-AD7D-C7B1A400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8652-690D-4083-AA98-469919AF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DD9-2141-4905-AE2D-02EAF730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43A3-7D40-4D76-98A6-55E6F0AE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29D-8141-4E42-AE20-05F0B698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5AF0-61C0-4E6F-AAAD-FA018AFC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12F-62C7-48A0-A906-83F3E498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64EE0-9941-4816-963F-CBBDD9E0E8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