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54728"/>
        <c:axId val="48419441"/>
      </c:barChart>
      <c:catAx>
        <c:axId val="49854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9441"/>
        <c:crosses val="autoZero"/>
        <c:auto val="1"/>
        <c:lblAlgn val="ctr"/>
        <c:lblOffset val="100"/>
        <c:noMultiLvlLbl val="0"/>
      </c:catAx>
      <c:valAx>
        <c:axId val="48419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4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023-CCE5-4550-B5B1-4125BB65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DEF-EB6C-4C57-A060-28759D1E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BD2-A354-4AE9-9AAE-6F951E82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1E6-4E99-450F-8537-1E7801E2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9D0-1EEE-4F67-96B1-1A4D5B1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133-97B4-45D7-AE3A-74CF9CD8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CD7-940C-4BEC-BE94-23EEC37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0F9-F681-47F2-B16C-B5A4CC9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B01-E803-462C-998B-D5A46E82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579-F9C9-4F98-987F-DD6A257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35E-CBD5-4288-8B41-BA9064B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C9B-516C-49C9-99E9-C3F880B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E7EB-D1C2-4D23-BA1C-F7E308C908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