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4402"/>
        <c:axId val="99266773"/>
      </c:barChart>
      <c:catAx>
        <c:axId val="22544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66773"/>
        <c:crosses val="autoZero"/>
        <c:auto val="1"/>
        <c:lblAlgn val="ctr"/>
        <c:lblOffset val="100"/>
        <c:noMultiLvlLbl val="0"/>
      </c:catAx>
      <c:valAx>
        <c:axId val="99266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4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3CC-9EDC-4381-9E43-2F066958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A2D-D114-4A56-A7BC-460FB16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870-FC68-4D2F-A442-668A75D2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EC4-A1C8-40E7-A154-91B125A8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C22-8BBB-482C-8821-E11DFF06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F7C-4C8C-4A85-B7ED-42522986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CC2-BE00-48A2-8E9F-96767C3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9C2-1DA7-437E-AC81-A19258E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CEC-4D6D-499F-A62C-61EAD316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4B3-D1F1-4907-B641-6CCCDDFB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94B-640D-4F80-A0D4-6D01827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929-4E15-488A-8B6A-7B24B3D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8D017-426A-48DA-A4F4-23207FCAB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