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37728"/>
        <c:axId val="31502510"/>
      </c:barChart>
      <c:catAx>
        <c:axId val="12837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02510"/>
        <c:crosses val="autoZero"/>
        <c:auto val="1"/>
        <c:lblAlgn val="ctr"/>
        <c:lblOffset val="100"/>
        <c:noMultiLvlLbl val="0"/>
      </c:catAx>
      <c:valAx>
        <c:axId val="31502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7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15E-D08C-4C24-87CA-4A7CAF87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EE4-EFF0-4338-8078-404692E1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8D4-BC71-486A-B524-64F5C8CF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951-E86C-46B4-BB5A-66ADF39E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958-CFBC-40E0-BCCC-D9FA8EF0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99D-7821-4DA6-B218-6307FC3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864-C2CB-40D5-A8B9-4A17C309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A77-BE2D-4585-B923-AE2DACCB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061-CB81-45DD-A51E-8ACDB3F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87B-46D2-41A3-8D09-E691C25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FFA-BF61-43FD-A19F-57BCDF3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434-14E9-459E-A7A9-80F0891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5BD18-B928-4AE1-8D9B-0404B3A4B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